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328-F494-4485-9D6F-7A77026D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400-32C5-4655-B0D3-FDEA9F9C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708-25A0-40B1-A409-D2E07CAD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A22-0C0E-424D-ABF2-44AE99A5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C11B-D18B-4881-B5A0-4FAA92C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C31-61F5-4F0D-9B6A-52B35ED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67B-9F45-40EA-B5FA-6CCF4F8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B26-AD5A-430E-8CAC-2FDFF38B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EB3-1F93-44B9-AE9D-072CB78C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A1A-87EB-462B-98A9-45E8C41A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A3F-A049-446F-BAED-2ACEE501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AC0-9B44-4216-964F-0C1F6EB5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9D9D-4554-45FA-9832-ABD68706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beaches%20%7C%20id:3DC0EFC650A10FE9F7D8EE26230682214229C235&amp;form=IGRE3&amp;p1=OneRow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Galve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d9d5"/>
                </a:solidFill>
                <a:latin typeface="Arial"/>
              </a:rPr>
              <a:t>By: Jordan La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467160"/>
            <a:ext cx="2643120" cy="339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flipH="1">
            <a:off x="6757920" y="3467160"/>
            <a:ext cx="23860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Be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b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veston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Turks &amp; Caicos: hotels and vill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imes ra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5600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1960" y="4910040"/>
            <a:ext cx="1702080" cy="1882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238880" y="380880"/>
            <a:ext cx="1616040" cy="180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673600" y="3733920"/>
            <a:ext cx="3470400" cy="2752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d9d5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ch volley 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sculpture con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31:05Z</dcterms:created>
  <dc:creator>766935</dc:creator>
  <dc:description/>
  <dc:language>en-US</dc:language>
  <cp:lastModifiedBy>766935</cp:lastModifiedBy>
  <dcterms:modified xsi:type="dcterms:W3CDTF">2009-01-23T16:58:06Z</dcterms:modified>
  <cp:revision>3</cp:revision>
  <dc:subject/>
  <dc:title>Galveston</dc:title>
</cp:coreProperties>
</file>